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5F0-4014-4959-911C-705936F1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79A-C401-4950-A91F-E4235826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E11-74B5-43DC-AA26-C389F07C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605-E7E2-4B69-A0BA-32564B2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076-4A0E-431D-8CA9-F168681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B07-9B73-4187-AE40-702B5394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453-79E4-48FA-8E77-5622C51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207-78C3-45AE-879C-903AC847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54E-E890-43E5-9F2B-1F7E809C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CED-AA78-4F47-86BB-DFBFA0FA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8C3-5E25-47BD-8425-3B6C902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0A4-AAB9-4DE5-9381-20AD037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9795-91BF-4A12-9AC8-CDD3E4EE1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443700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报效祖国之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263700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立志成才 报效祖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4665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国家的富强要靠全体人民的团结奋斗、艰苦创业和无私奉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557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正确认识个人与祖国关系就会时刻关心国家的发展和安危。（意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4720" y="2852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第（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）问的参考答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3508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迅几改志愿是因为他满怀一种忧国忧民之情，深怀一颗报国救民之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48625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立报效祖国的大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2720" y="9874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谋划策——追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7939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假如你是小芳，你会如何去说服表哥的父母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555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做坚定的爱国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628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热爱祖国、积极向上、团结友爱、文明礼貌是当代青少年精神世界的主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31543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中学生如何才能成为一个坚定的爱国者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4360" y="5554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探究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14097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社会风景——人才招聘面面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2565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并与同桌交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2720" y="3284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分析上述材料，探讨现代社会衡量人才的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4653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上面的材料对你有什么启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79640" y="620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想道德和职业素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1268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科学文化素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916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业技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6681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敬业精神、责任心强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268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学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1989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会计师、熟练操作数控机床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261144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沟通能力、创新能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84440" y="765000"/>
            <a:ext cx="439560" cy="2159280"/>
          </a:xfrm>
          <a:custGeom>
            <a:avLst/>
            <a:gdLst>
              <a:gd name="textAreaLeft" fmla="*/ 280800 w 439560"/>
              <a:gd name="textAreaRight" fmla="*/ 439920 w 4395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268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全面发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3573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个性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789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全面而有个性地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437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生立志报效祖国，落实到行动上，最重要的就是努力学习，全面而有个性地发展，争做有用之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4360" y="2349360"/>
            <a:ext cx="360360" cy="129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2680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6" stAng="-5400000" swAng="5400000"/>
                <a:lnTo>
                  <a:pt x="21600" y="11875"/>
                </a:lnTo>
                <a:arcTo wR="21600" hR="7566" stAng="0" swAng="2683887"/>
                <a:lnTo>
                  <a:pt x="7200" y="21167"/>
                </a:lnTo>
                <a:lnTo>
                  <a:pt x="0" y="17286"/>
                </a:lnTo>
                <a:lnTo>
                  <a:pt x="7200" y="12538"/>
                </a:lnTo>
                <a:lnTo>
                  <a:pt x="7200" y="14698"/>
                </a:lnTo>
                <a:arcTo wR="21600" hR="7566" stAng="2683887" swAng="-2327459"/>
                <a:lnTo>
                  <a:pt x="20706" y="9720"/>
                </a:lnTo>
                <a:arcTo wR="21600" hR="7566" stAng="-356428" swAng="-5043572"/>
                <a:close/>
              </a:path>
              <a:path fill="darkenLess" w="21600" h="21600">
                <a:moveTo>
                  <a:pt x="0" y="0"/>
                </a:moveTo>
                <a:arcTo wR="21600" hR="7566" stAng="-5400000" swAng="5400000"/>
                <a:lnTo>
                  <a:pt x="21600" y="11875"/>
                </a:lnTo>
                <a:arcTo wR="21600" hR="7566" stAng="0" swAng="-356428"/>
                <a:lnTo>
                  <a:pt x="20706" y="9720"/>
                </a:lnTo>
                <a:arcTo wR="21600" hR="7566" stAng="-356428" swAng="-504357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4842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教材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8200" y="1125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相对应的课程标准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170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我国各族人民的共同理想，体会理想的实现必须经过艰苦奋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志为将来报效祖国，奉献社会努力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3284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教学重点和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：个人前途和祖国命运息息相关；立报效祖国之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点：个人前途与祖国命运息息相关；全面而有个性地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476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学生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41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针对的问题：在现实生活中，许多人把个人前途和祖国命运截然分开，只重视个人私欲，很少考虑国家命运和利益，没有认识到个人前途和祖国命运的一致性。同时，受个人主义的影响，现在部分学生的志向越来越低俗化、自私化。所以，让学生真正明白个人前途与祖国命运的关系具有重要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765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的需要：以往我们的教育只重视学生学习知识的掌握，而忽视了学生的全面发展，只强调学校、班级学生的共性教育，忽视了学生个性的发展，不能正确地看到学生的特长和特点。近几年，在部分学生的思想观念中，也存在一种“过分强调自己的个性，过分强调自我，以自我为中心”的错误思想。这两种错误思想都不利于学生的健康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89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课时安排和教学内容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692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分两课时进行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97000"/>
            <a:ext cx="864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课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个人前途与祖国命运息息相关。建议把“探究园”活动一“经典透视——鲁迅几改志愿的启迪”、“国情导读”第一目“个人前途与祖国命运息息相关”、第二目“立报效祖国之志”，“实践与评价”一“出谋划策——追求”这四部分进行重新整合，作为第一课时安排教学。主要对学生立志给予思想上的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课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做坚定的爱国者。把“探究园”活动二“社会风景——人才招聘面面观”和“国情导读”第三目“做坚定的爱国者”，第四目“全面而有个性地发展”，“实践与评价二‘青春论坛——毛毛虫’”故事部分整合，作为第二课时进行教学。主要对学生报效祖国给予行动上的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484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探究园活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4560" y="12654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经典透视——鲁迅几改志愿的启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2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鲁迅的故事对你有什么启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141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试分析上述材料，探究鲁迅几改志愿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3783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还能列举其他具有崇高志向的人物，并说说他们的事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333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问的参考答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9079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迅几改志愿的故事告诉我们，在进行未来道路选择时，应把个人前途和祖国的命运紧密地联系起来，像鲁迅那样，按祖国的需要来选择自己的志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060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说明一个道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人前途和祖国命运息息相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2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祖国命运影响个人前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07196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中国成立前后特别是改革开放以来，中国人的命运发生深刻变化，你能举例说明祖国命运是怎样影响个人前途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260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与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3346560" cy="4826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5877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旅居东帝汶侨民乘包机撤回厦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3538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走出机舱，侨胞们个个高高挥舞着五星红旗。见到从全国各地来机场迎接他们的祖国亲人，侨胞们异口同声地高呼：“感谢祖国！感谢祖国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手捧机场工作人员献上的鲜花，侨胞们不禁再次喊出心声：“感谢祖国！”“感谢祖国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６１岁的詹先生出生在东帝汶，现任东帝汶商会理事，这是他第一次来到中国。他说以前对中华人民共和国没有真切的感觉，这次中国政府包机将他撤离正处在骚乱中的东帝汶，让他感到身后好像有了一座靠山，他觉得很自豪。中国政府将根据他的选择，把他安置在澳门。他想等东帝汶平静了再回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家在山东烟台的盖文港是山东外建国际公司的员工，在东帝汶参加援建东帝汶外交部大楼项目。他说， “能平平安安地回来，要感谢国家，感谢政府。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撤回的侨民中最小的是一个只有３个月大的女婴。抱着小外甥女的舅舅建兴说，他是福建霞浦人，妹妹、妹夫都在东帝汶做生意，暂时离不开，让他把外甥女带回祖国这个最安全的地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１日就是端午节了，很快就可以回到家乡与亲朋好友共度佳节了。在东帝汶经历了骚乱平安归国的侨胞们纷纷表示，只有在祖国的怀抱里才能深切感受到生活的美好和幸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7:44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28:39Z</dcterms:modified>
  <cp:revision>5</cp:revision>
  <dc:subject>主题班会课件(分28大类): http://shop62905894.taobao.com</dc:subject>
  <dc:title>主题班会课件(分28大类): http://shop62905894.taobao.com</dc:title>
</cp:coreProperties>
</file>